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11F-9D6C-4E59-93D0-977D788E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E58-8FD8-4CC6-B6A8-F899F647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40B-ACAC-4D78-8129-CDDFC8F1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FA3-9D04-4210-B1CC-3065E3E9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62F3-2023-4E11-A15D-B8822934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6FD5-C38F-461D-A9F3-1BFD3BDB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F876-7965-4258-9F42-CCAE316A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AC5F-C5C2-4FD5-97E7-26ACD5AF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082F-1AE9-4FC0-8E36-71C0320E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0B8D-43C9-47A3-94EF-588EAAC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AE98-3516-48C4-8DA9-E17EDAEE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D3A-EF2A-42CE-8EC3-12A531B7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2E22-ED19-4746-AB14-82DBD066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C47C-7EF6-4BC5-8639-1CC0A8B1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4CAC-6EA6-4FA3-BFBF-C5807B8C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B727-AA9E-4B05-88D1-79DB3B24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4095-0D3F-4302-907D-CC5C9E7A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CB54-D541-42E4-9A03-08023691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8B75-BC25-488A-8EA0-F7D81F6A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EAF5-1634-4622-AD09-5DCCD821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5CE7-A4F1-48AF-B532-81AA42F3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1D84-5FA5-4A3E-9A59-08B4C384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25B-1446-4390-A988-3366753D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D6C6-967D-41A4-A716-8AB9AA75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FCA3-CFE5-4B63-B746-C0D81D8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A0F7-FA4F-4B52-AF1C-5496BCD8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9CE2-E28A-407D-95AA-CA505491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A10E-6352-4E64-980F-B0628C30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A3D4-0A46-414A-9B1F-9F2C3482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AAC2-6C60-4D4F-B036-6F3041F1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B9522-C964-4847-960A-DCE6279A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929E5-39EF-425C-AEF8-F961AD71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21DF8-6DF7-4C99-AC31-68D6E87B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832-0517-48A8-9DA0-412E6C5E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20F1-6856-4793-A845-C786B71F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50D5-E91B-445D-BC1A-4393DEAF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FB6C7-B9ED-4A57-B762-68A63234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6E1E-FA5B-42AE-A4F3-E224E76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7051-88FB-41DF-B12B-595514A0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03BA-4C18-4A41-9715-6A8B63E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46EF-7E2B-40A4-A067-D0B7617E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B2E87-6951-4250-A754-069C4E20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32B9-E8CC-445F-AA0E-122DBC7A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175CF-4883-4986-A96A-4B250BF6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7FA-9399-4815-9D68-D6BCFAA6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441BA-9CBA-4A67-A46C-0153D600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B1155-E400-48C6-9546-1D36ACD0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21DF0-D83B-4F4A-A326-65180087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F22F7-9F61-46B7-BEB0-9858431E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8C53-1C59-4058-A81C-9F8D6F36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88005-B266-4C6A-992B-1A9C8C55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F68C-AACF-44B3-91D3-80ED019A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E865-7356-49C6-8715-6C18151E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801B7-ECB8-4C90-8266-9CB957AE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AD4B5-D4A3-4529-84AC-5897E618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8BF-31D5-4764-8227-86B867D0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D6B3-6D92-4909-8F7F-9CD46AF3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E59-927C-4D75-BF0D-669373E1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B92-B3C8-4A66-8334-DF5CC8D6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334-C6C9-46BF-911C-1DE8A6D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6A9B-2DC0-4A02-8442-ACD95DCA79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93FB-07EB-4058-874A-A63ADE07A3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4FF-6ACB-4C8C-B440-57354E05B88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93E9-7C64-4ECB-8B10-2EF2215F145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EDFC-0CFD-4EA2-8358-3700743705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Perpetua"/>
              </a:rPr>
              <a:t>CREAREA UNUI TEST ON-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APITOLUL III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Editare tes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31" name="Picture 4" descr="C:\Users\Win7\Desktop\laura print screenuri\REALIZARE TEST PORTAL.jpg"/>
          <p:cNvPicPr/>
          <p:nvPr/>
        </p:nvPicPr>
        <p:blipFill>
          <a:blip r:embed="rId1"/>
          <a:stretch/>
        </p:blipFill>
        <p:spPr>
          <a:xfrm>
            <a:off x="609480" y="1905120"/>
            <a:ext cx="81518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C:\Users\Win7\Desktop\laura print screenuri\REALIZARE TEST PORTAL 1.jpg"/>
          <p:cNvPicPr/>
          <p:nvPr/>
        </p:nvPicPr>
        <p:blipFill>
          <a:blip r:embed="rId1"/>
          <a:stretch/>
        </p:blipFill>
        <p:spPr>
          <a:xfrm>
            <a:off x="685800" y="1143000"/>
            <a:ext cx="7996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:\Users\Win7\Desktop\laura print screenuri\REALIZARE TEST PORTAL 2.jpg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Win7\Desktop\laura print screenuri\REALIZARE TEST PORTAL 3.jpg"/>
          <p:cNvPicPr/>
          <p:nvPr/>
        </p:nvPicPr>
        <p:blipFill>
          <a:blip r:embed="rId1"/>
          <a:stretch/>
        </p:blipFill>
        <p:spPr>
          <a:xfrm>
            <a:off x="457200" y="68580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Win7\Desktop\laura print screenuri\REALIZARE TEST PORTAL 5.jpg"/>
          <p:cNvPicPr/>
          <p:nvPr/>
        </p:nvPicPr>
        <p:blipFill>
          <a:blip r:embed="rId1"/>
          <a:stretch/>
        </p:blipFill>
        <p:spPr>
          <a:xfrm>
            <a:off x="1523880" y="1066680"/>
            <a:ext cx="6400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Win7\Desktop\laura print screenuri\REALIZARE TEST PORTAL 6.jpg"/>
          <p:cNvPicPr/>
          <p:nvPr/>
        </p:nvPicPr>
        <p:blipFill>
          <a:blip r:embed="rId1"/>
          <a:stretch/>
        </p:blipFill>
        <p:spPr>
          <a:xfrm>
            <a:off x="1143000" y="11430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51Z</dcterms:created>
  <dc:creator>User</dc:creator>
  <dc:description/>
  <dc:language>en-US</dc:language>
  <cp:lastModifiedBy>Win7</cp:lastModifiedBy>
  <dcterms:modified xsi:type="dcterms:W3CDTF">2012-06-28T10:22:59Z</dcterms:modified>
  <cp:revision>14</cp:revision>
  <dc:subject/>
  <dc:title>CAPITOLUL 3</dc:title>
</cp:coreProperties>
</file>